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345-6E44-4FEB-BE89-E7084247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FF81-6DAE-43C4-8CDD-207EA01B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1040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1040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ED4-9CA6-41BB-837D-3B89F151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0188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4656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0188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14656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ED6-A5D5-4A79-AE16-D1731585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6B4-0AF0-41D2-9C56-07AB1E09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B30-D92C-42E4-BB43-A2B38612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1040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06C-0C7E-49A9-B3C4-6DBE8F34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529-92FE-4C68-9F76-7920301A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DDB-C5F9-452F-BF8A-EF38159A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1040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B4D-A137-4827-931B-09D1CA43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1040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1040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296-B90F-49B6-97D4-C5E0173B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1040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742-3C62-4706-8EFF-B49AB2E8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0C8F-2113-4FD3-8EB8-16FA44174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4" descr="j0299587"/>
          <p:cNvPicPr/>
          <p:nvPr/>
        </p:nvPicPr>
        <p:blipFill>
          <a:blip r:embed="rId3"/>
          <a:stretch/>
        </p:blipFill>
        <p:spPr>
          <a:xfrm>
            <a:off x="7391520" y="5108400"/>
            <a:ext cx="1752480" cy="1749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5" descr="j0299587"/>
          <p:cNvPicPr/>
          <p:nvPr/>
        </p:nvPicPr>
        <p:blipFill>
          <a:blip r:embed="rId4"/>
          <a:stretch/>
        </p:blipFill>
        <p:spPr>
          <a:xfrm>
            <a:off x="7391520" y="3429000"/>
            <a:ext cx="1752480" cy="17496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6" descr="j0299587"/>
          <p:cNvPicPr/>
          <p:nvPr/>
        </p:nvPicPr>
        <p:blipFill>
          <a:blip r:embed="rId5"/>
          <a:stretch/>
        </p:blipFill>
        <p:spPr>
          <a:xfrm>
            <a:off x="7391520" y="1752480"/>
            <a:ext cx="1752480" cy="17496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7" descr="j0299587"/>
          <p:cNvPicPr/>
          <p:nvPr/>
        </p:nvPicPr>
        <p:blipFill>
          <a:blip r:embed="rId6"/>
          <a:stretch/>
        </p:blipFill>
        <p:spPr>
          <a:xfrm>
            <a:off x="7391520" y="0"/>
            <a:ext cx="1752480" cy="17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670572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Poetry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you paint a picture or imagine what is happening or what the poet is feel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children were nestled all snug in their bed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rison of two things using the words like or 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cheeks were like ro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nose like a cher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rison of two things WITHOUT using “as or lik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ouds are fluffy pil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ing an animal or an object human qua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ouse glowed with happin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into groups of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find examples of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yming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etry is literature that uses a few words to tell about ideas, feelings and paints a picture in the readers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ems may or may  not rhy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meant to be read alou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- the way it looks on the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-  a group of words together on one line of the po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ZA - a group of lines arrang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ight Before Christ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as the night before Christm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ll through th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reature was stir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ven a mou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38080" y="457200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5105520" y="3886200"/>
            <a:ext cx="380880" cy="2209680"/>
          </a:xfrm>
          <a:custGeom>
            <a:avLst/>
            <a:gdLst>
              <a:gd name="textAreaLeft" fmla="*/ 0 w 380880"/>
              <a:gd name="textAreaRight" fmla="*/ 137520 w 38088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St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nd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of poetry that use one type of sound related characteris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ore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s that are alike at the end of words, such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rhyming words- the words do not exactly rhy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dry leaves that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ld hurrica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y meet with an obstac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yth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at of the po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made up patterns of strong and weak syll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RHYME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6553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ight Before Christ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as the night before christm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ll through the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reature was stir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ven a 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019920" y="2362320"/>
            <a:ext cx="114300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gurative Language and other poetic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and phrases that help the reader picture things in a new 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apid than ea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21:31:07Z</dcterms:created>
  <dc:creator>.</dc:creator>
  <dc:description/>
  <dc:language>en-US</dc:language>
  <cp:lastModifiedBy>Lorettem</cp:lastModifiedBy>
  <dcterms:modified xsi:type="dcterms:W3CDTF">2015-11-21T18:37:48Z</dcterms:modified>
  <cp:revision>9</cp:revision>
  <dc:subject/>
  <dc:title>Poetry</dc:title>
</cp:coreProperties>
</file>